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6BA2-734C-4685-A736-6A4F3797B1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BC71-082D-42F9-84AA-E933FA3493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0912-8330-4BBC-92EC-DC83AD5C9E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139-FC5D-4465-9890-D7EE79F4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3B0-7973-4AE9-A9FD-A40D3EE7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761-ACC7-4E8D-8264-18AEF5F9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A0E-09FA-4785-AC7E-89C89B3D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4EC-3404-41D3-80A0-6EA7A461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662-4CE2-4CC4-B10B-AB06F36B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CA8-DC98-4222-A1BE-DD56FE7E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AE1-BECB-4029-8EE8-A855F4F3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3A5-89E9-42A3-8485-AA55F1B9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ED4-33AC-4A69-A615-38FD3F0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659-5023-48B5-9A0F-BE9FBF7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40F-E8CC-440C-B91A-6C3A9027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939D-3C01-4FE8-AF3C-752DA3BF9A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kaigi_shifuku_brainstorming2"/>
          <p:cNvPicPr/>
          <p:nvPr/>
        </p:nvPicPr>
        <p:blipFill>
          <a:blip r:embed="rId1"/>
          <a:stretch/>
        </p:blipFill>
        <p:spPr>
          <a:xfrm>
            <a:off x="2003400" y="161280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1"/>
          <p:cNvSpPr/>
          <p:nvPr/>
        </p:nvSpPr>
        <p:spPr>
          <a:xfrm>
            <a:off x="3659040" y="3529080"/>
            <a:ext cx="936720" cy="12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3732120" y="3583080"/>
            <a:ext cx="792360" cy="11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 4"/>
          <p:cNvSpPr/>
          <p:nvPr/>
        </p:nvSpPr>
        <p:spPr>
          <a:xfrm>
            <a:off x="3143160" y="103680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進行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7"/>
          <p:cNvSpPr/>
          <p:nvPr/>
        </p:nvSpPr>
        <p:spPr>
          <a:xfrm>
            <a:off x="5808600" y="1882800"/>
            <a:ext cx="1727280" cy="201600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2016000"/>
              <a:gd name="textAreaBottom" fmla="*/ 1931760 h 2016000"/>
            </a:gdLst>
            <a:ahLst/>
            <a:rect l="textAreaLeft" t="textAreaTop" r="textAreaRight" b="textAreaBottom"/>
            <a:pathLst>
              <a:path w="21600" h="25210">
                <a:moveTo>
                  <a:pt x="3600" y="0"/>
                </a:moveTo>
                <a:arcTo wR="3600" hR="3600" stAng="16200000" swAng="-5400000"/>
                <a:lnTo>
                  <a:pt x="0" y="21610"/>
                </a:lnTo>
                <a:arcTo wR="3600" hR="3600" stAng="10800000" swAng="-5400000"/>
                <a:lnTo>
                  <a:pt x="18000" y="2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書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ボードはできるだけみんなが見える場所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8"/>
          <p:cNvSpPr/>
          <p:nvPr/>
        </p:nvSpPr>
        <p:spPr>
          <a:xfrm>
            <a:off x="3156120" y="5732640"/>
            <a:ext cx="1944360" cy="90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その他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メンバ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6"/>
          <p:cNvSpPr/>
          <p:nvPr/>
        </p:nvSpPr>
        <p:spPr>
          <a:xfrm>
            <a:off x="598320" y="190440"/>
            <a:ext cx="799488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グループで話合いをしよう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円/楕円 6"/>
          <p:cNvSpPr/>
          <p:nvPr/>
        </p:nvSpPr>
        <p:spPr>
          <a:xfrm>
            <a:off x="3492360" y="1773360"/>
            <a:ext cx="2519640" cy="2232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135000" y="404640"/>
            <a:ext cx="8856720" cy="149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進行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より良い話合いになるように，話合いを進め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全員が意見を出せるよう声をかけ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447840" y="3384720"/>
            <a:ext cx="3743280" cy="2775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書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みんなの意見を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ばやくかんたんに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とめて書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も意見を言い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5060880" y="3357720"/>
            <a:ext cx="3632400" cy="27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その他のメンバ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思いをでき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るだけ分かりや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く伝え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他の友達の意見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しっかり聞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線コネクタ 8"/>
          <p:cNvSpPr/>
          <p:nvPr/>
        </p:nvSpPr>
        <p:spPr>
          <a:xfrm>
            <a:off x="3203640" y="2482920"/>
            <a:ext cx="288720" cy="225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10"/>
          <p:cNvSpPr/>
          <p:nvPr/>
        </p:nvSpPr>
        <p:spPr>
          <a:xfrm flipH="1">
            <a:off x="3525480" y="248292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14"/>
          <p:cNvSpPr/>
          <p:nvPr/>
        </p:nvSpPr>
        <p:spPr>
          <a:xfrm>
            <a:off x="5972040" y="2595600"/>
            <a:ext cx="287640" cy="22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 flipH="1">
            <a:off x="5617800" y="2581200"/>
            <a:ext cx="35100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6"/>
          <p:cNvSpPr/>
          <p:nvPr/>
        </p:nvSpPr>
        <p:spPr>
          <a:xfrm>
            <a:off x="4475160" y="3778200"/>
            <a:ext cx="287280" cy="22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7"/>
          <p:cNvSpPr/>
          <p:nvPr/>
        </p:nvSpPr>
        <p:spPr>
          <a:xfrm flipH="1">
            <a:off x="4462200" y="400680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正方形/長方形 1"/>
          <p:cNvSpPr/>
          <p:nvPr/>
        </p:nvSpPr>
        <p:spPr>
          <a:xfrm>
            <a:off x="42840" y="-243000"/>
            <a:ext cx="914400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合いの流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全員自分の意見を伝え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・しつ問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出た意見で，分からないこと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知りたいことなどを聞こ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・せいり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出た意見をせいりし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「自分にもよくてみんなにもよい」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答えになるように意見をまとめ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qe74765\Desktop\086-11.png"/>
          <p:cNvPicPr/>
          <p:nvPr/>
        </p:nvPicPr>
        <p:blipFill>
          <a:blip r:embed="rId1"/>
          <a:srcRect l="0" t="0" r="57921" b="0"/>
          <a:stretch/>
        </p:blipFill>
        <p:spPr>
          <a:xfrm>
            <a:off x="2635200" y="673200"/>
            <a:ext cx="3960720" cy="199800"/>
          </a:xfrm>
          <a:prstGeom prst="rect">
            <a:avLst/>
          </a:prstGeom>
          <a:ln w="0">
            <a:noFill/>
          </a:ln>
        </p:spPr>
      </p:pic>
      <p:grpSp>
        <p:nvGrpSpPr>
          <p:cNvPr id="67" name="グループ化 3"/>
          <p:cNvGrpSpPr/>
          <p:nvPr/>
        </p:nvGrpSpPr>
        <p:grpSpPr>
          <a:xfrm>
            <a:off x="-5760" y="961920"/>
            <a:ext cx="3106080" cy="1593720"/>
            <a:chOff x="-5760" y="961920"/>
            <a:chExt cx="3106080" cy="1593720"/>
          </a:xfrm>
        </p:grpSpPr>
        <p:pic>
          <p:nvPicPr>
            <p:cNvPr id="68" name="Picture 14" descr="Q:\036-037\PNG\036-06B.png"/>
            <p:cNvPicPr/>
            <p:nvPr/>
          </p:nvPicPr>
          <p:blipFill>
            <a:blip r:embed="rId2"/>
            <a:stretch/>
          </p:blipFill>
          <p:spPr>
            <a:xfrm rot="15569400">
              <a:off x="988200" y="299160"/>
              <a:ext cx="107928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テキスト ボックス 5"/>
            <p:cNvSpPr/>
            <p:nvPr/>
          </p:nvSpPr>
          <p:spPr>
            <a:xfrm>
              <a:off x="787320" y="142344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出し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グループ化 14"/>
          <p:cNvGrpSpPr/>
          <p:nvPr/>
        </p:nvGrpSpPr>
        <p:grpSpPr>
          <a:xfrm>
            <a:off x="43920" y="5057280"/>
            <a:ext cx="3091320" cy="1596600"/>
            <a:chOff x="43920" y="5057280"/>
            <a:chExt cx="3091320" cy="1596600"/>
          </a:xfrm>
        </p:grpSpPr>
        <p:pic>
          <p:nvPicPr>
            <p:cNvPr id="71" name="Picture 14" descr="Q:\036-037\PNG\036-06B.png"/>
            <p:cNvPicPr/>
            <p:nvPr/>
          </p:nvPicPr>
          <p:blipFill>
            <a:blip r:embed="rId3"/>
            <a:stretch/>
          </p:blipFill>
          <p:spPr>
            <a:xfrm rot="15569400">
              <a:off x="1050480" y="4383360"/>
              <a:ext cx="1077840" cy="29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テキスト ボックス 16"/>
            <p:cNvSpPr/>
            <p:nvPr/>
          </p:nvSpPr>
          <p:spPr>
            <a:xfrm>
              <a:off x="767520" y="5513400"/>
              <a:ext cx="23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まとめ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グループ化 20"/>
          <p:cNvGrpSpPr/>
          <p:nvPr/>
        </p:nvGrpSpPr>
        <p:grpSpPr>
          <a:xfrm>
            <a:off x="7200" y="2241360"/>
            <a:ext cx="3066840" cy="1592280"/>
            <a:chOff x="7200" y="2241360"/>
            <a:chExt cx="3066840" cy="1592280"/>
          </a:xfrm>
        </p:grpSpPr>
        <p:pic>
          <p:nvPicPr>
            <p:cNvPr id="74" name="Picture 14" descr="Q:\036-037\PNG\036-06B.png"/>
            <p:cNvPicPr/>
            <p:nvPr/>
          </p:nvPicPr>
          <p:blipFill>
            <a:blip r:embed="rId4"/>
            <a:stretch/>
          </p:blipFill>
          <p:spPr>
            <a:xfrm rot="15569400">
              <a:off x="1001520" y="1577880"/>
              <a:ext cx="10778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658440" y="2707200"/>
              <a:ext cx="23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くらべ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01:02:22Z</dcterms:created>
  <dc:creator>京都市教育委員会</dc:creator>
  <dc:description/>
  <dc:language>en-US</dc:language>
  <cp:lastModifiedBy>京都市教育委員会</cp:lastModifiedBy>
  <cp:lastPrinted>2019-09-24T01:38:54Z</cp:lastPrinted>
  <dcterms:modified xsi:type="dcterms:W3CDTF">2020-02-27T07:27:49Z</dcterms:modified>
  <cp:revision>17</cp:revision>
  <dc:subject/>
  <dc:title>PowerPoint プレゼンテーション</dc:title>
</cp:coreProperties>
</file>